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1D7-D693-472B-84B4-FD95EA9B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465-5A1F-4E9C-9D8A-ED56943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EA1-AA66-44A4-AD36-59DC027B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88C-8CBA-4869-A603-C1288B86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1CFB-77C7-4768-9E73-E34339FA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A773-0B4B-4D2F-BB29-3891A97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0FD3-6D2E-49C3-A53D-300A7BF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F99-054E-4071-BD93-6F1AE8E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0556-7CB0-4946-A893-698F400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5A7-B55F-45DC-B1CF-467E18AE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2F9-B3CB-4326-A915-585F88B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40C-AA39-45CB-8EDF-CDCDA9A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A51-60F5-4235-BCF2-1D8C203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7C6B-01EF-436F-8FBF-5F73CA4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4E70-9D70-4545-9A70-A306847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03F-3EC8-474E-9EAA-B1323D3D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9E6-E9CE-4191-A3A6-DAC65276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E51-9278-47A7-834A-031BAA6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C43-1914-489E-8B92-EFF85FBA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721-7E2E-4A07-9FC7-22A399F5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EE3-2D30-4797-844D-F420CA44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C8C-0827-4EE0-97DA-BCFBF1D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C53-040D-4B83-846A-B4C2E91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AB3-A75B-40D4-93DA-8AE6547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8CB-5F5C-4DD0-8E69-37E4FCAE24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132-B6EC-4E75-9BA0-35CD830F30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ман Л.Н.Толстого «Война и мир» - роман-эпопея: проблематика, образы, жан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страсти, все моменты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ческой жизни, от крика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оворожденного ребёнка до последней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пышки чувства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умирающего старика,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горести и радости, доступные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ку,- всё есть в этой картине!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ритик Н. Страхов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333360"/>
          <a:ext cx="8640720" cy="6191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19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КУТУЗОВ И НАПОЛЕОН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484280"/>
          <a:ext cx="8569440" cy="48744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узо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79640" y="1989000"/>
          <a:ext cx="5640480" cy="304920"/>
        </p:xfrm>
        <a:graphic>
          <a:graphicData uri="http://schemas.openxmlformats.org/drawingml/2006/table">
            <a:tbl>
              <a:tblPr/>
              <a:tblGrid>
                <a:gridCol w="564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ость, детали портр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5280" y="2276640"/>
          <a:ext cx="8569440" cy="155412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тяжело ступая», «по пухлому, изуродованному раной лицу», «лицо его становилось всё светлее и светлее от старческой кроткой улыб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зучастный, ограниченный и счастливый от несчастия других взгляд», «круглый живот»,»жирные ляжки коротких ног», «жёлтый, пухлый, тяжёлый, с мутными глаз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8000" y="3429000"/>
          <a:ext cx="5688360" cy="3049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9640" y="3716280"/>
          <a:ext cx="8425080" cy="822240"/>
        </p:xfrm>
        <a:graphic>
          <a:graphicData uri="http://schemas.openxmlformats.org/drawingml/2006/table">
            <a:tbl>
              <a:tblPr/>
              <a:tblGrid>
                <a:gridCol w="4032360"/>
                <a:gridCol w="4392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Он был убеждён, что ему предназначено спасение России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3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Париж был столицей мира, и французы предметом зависти всех наций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050920" y="4292640"/>
          <a:ext cx="5569200" cy="304920"/>
        </p:xfrm>
        <a:graphic>
          <a:graphicData uri="http://schemas.openxmlformats.org/drawingml/2006/table">
            <a:tbl>
              <a:tblPr/>
              <a:tblGrid>
                <a:gridCol w="556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в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8360" y="4581360"/>
          <a:ext cx="8424720" cy="1603440"/>
        </p:xfrm>
        <a:graphic>
          <a:graphicData uri="http://schemas.openxmlformats.org/drawingml/2006/table">
            <a:tbl>
              <a:tblPr/>
              <a:tblGrid>
                <a:gridCol w="4032360"/>
                <a:gridCol w="439236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играл никакой рол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делал никаких распоряжений, а только соглашался или не соглашался на то, что предлагали ему «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оль «благодетеля мир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аполеон делал свои распоряжения, которые или уже были исполнены прежде, чем он делал их, или же не могли быть и не были исполнены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333360"/>
          <a:ext cx="6096240" cy="431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е сцены с участием эти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765000"/>
          <a:ext cx="8424720" cy="6089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8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мотр войск в Брауна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оенный совет перед Аустерлиц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16,25,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овет в Фил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3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Главы о Кутузов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4 -4,5,6,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Тильзитск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 - 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ереправа через Нем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 - 1  -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2  - 26,29,33,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На Поклонной го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 захваченной Москв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– 8,9,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ство Наполе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– 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0"/>
          <p:cNvSpPr/>
          <p:nvPr/>
        </p:nvSpPr>
        <p:spPr>
          <a:xfrm>
            <a:off x="395280" y="189000"/>
            <a:ext cx="8497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 u="sng">
                <a:solidFill>
                  <a:srgbClr val="006633"/>
                </a:solidFill>
                <a:uFillTx/>
                <a:latin typeface="Arial"/>
              </a:rPr>
              <a:t>ИСТОРИЯ СОЗД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63-1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стреча с Пущиным и  Волкон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Роман «Война и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осстание на Сенатской площ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весть «Декабрис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12                         Отечественная 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05                                Война с Наполеоном в союзе с Авст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 flipV="1">
            <a:off x="399564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4211640" y="227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3"/>
          <p:cNvSpPr/>
          <p:nvPr/>
        </p:nvSpPr>
        <p:spPr>
          <a:xfrm>
            <a:off x="3995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4"/>
          <p:cNvSpPr/>
          <p:nvPr/>
        </p:nvSpPr>
        <p:spPr>
          <a:xfrm>
            <a:off x="4356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5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7"/>
          <p:cNvSpPr/>
          <p:nvPr/>
        </p:nvSpPr>
        <p:spPr>
          <a:xfrm>
            <a:off x="442764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8"/>
          <p:cNvSpPr/>
          <p:nvPr/>
        </p:nvSpPr>
        <p:spPr>
          <a:xfrm>
            <a:off x="40672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9"/>
          <p:cNvSpPr/>
          <p:nvPr/>
        </p:nvSpPr>
        <p:spPr>
          <a:xfrm>
            <a:off x="442764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«Я старался писать историю на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г. – после встречи с декабристами 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г. – «Невольно от настоящего я перешёл к 1825 году, эпохе заблуждений и несчастий моего геро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12 г. – «Чтобы понять моего героя, мне нужно перенестись к его молодости, которая совпала со славной для России эпохой 1812 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05 г. – «Мне совестно было писать о нашем торжестве, не описав 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: накопился огромный материал об исторических событиях 1805 – 1856 г.г. и замысел романа изменился. В центре оказались события 1812г., и героем романа стал 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89000"/>
          <a:ext cx="8856720" cy="633564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Война и мир» (1805 – 1820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6 – 1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 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12 – 1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лог   1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– второй 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-австро-француз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ойна 18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йна между коалицией  европейских держав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ликобритания, Россия, Австрия, Шве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и наполеоновской Францией. Союзники ставили своей целью изгнать французские войска с захваченных ими территорий и восстановить дореволюционные порядки во Франции. Главная роль в войне возлагалась на Австрию и Россию. Наполеон, получив известие о том, что австрийские войска 27 августа вступили в Баварию, искусным маневром своих главных сил окружил армию Макка и принудил её к капитуляции. Русские войска, прибывшие 29 сент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а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казались в тяжёлом положении и были вынуждены начать отход вдоль правого берега Дуная. Наполеон попытался окружить русские войска в районе Санкт-Пельтена. Но Кутузов, разгадав замысел противника, переправился через Дунай раньше подхода французов и нанёс сокрушительный удар. 4 ноября отряд Багратиона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нграбенском бо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разил атаки 30-тысячного авангарда французских войск и обеспечил соединение главных сил с австрийскими войсками. 20 но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устерлицком с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юзные войска были разбиты. Австрия вышла из войны и подписала с Францией сепаратный мир. Русские войска были отведены в Рос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620640"/>
            <a:ext cx="404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– четвёртый т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одительная война России против наполеоновской агрессии. Вторжение войск наполеона было вызвано обострением русско-французских экономических и политических противоречий, фактическим отказом России от Континентальной блока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события 1812 г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ереход французской армии через Неман (силы сторон к началу Отечественной войны: французы - около 610 тыс. человек; русские - около 240 тыс. челове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-6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моленское сражение, неудачная попытка наполеона разгромить основные силы русских вой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значение главнокомандующим М.И.Кутуз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Бородинское с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оенный совет в Филях, решение Кутузова оставить Москву; вступление французских войск в Моск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-6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ожар Моск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нтябрь-октя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Кутузов проводит Тарутинский марш-маневр, вынуждает французов уйти из Москвы и отступать по Старой Смоленской дороге; развёртывается партизанская вой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-16 но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ражение при Берез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ябрь-дека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гибель французской арм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згнание остатков «великой армии» из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Л. Н. ТОЛСТОЙ «Война и мир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Garamond"/>
              </a:rPr>
              <a:t>Историческая основа рома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484280"/>
          <a:ext cx="4392720" cy="3745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4000" y="1628640"/>
          <a:ext cx="4105080" cy="424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анр ром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Что такое «Война и мир»? Это не роман, ещё менее поэма, ещё менее историческая  хроника. «Война и мир» есть то, что хотел и мог выразить автор в той форме, в которой оно выразилось». (Л.Н.Толст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..Это не роман вообще, не исторический роман, даже не историческая хроника, это хроника семейная…это быль, и быль семейная» (Н.Страх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Оригинальное и многостороннее произведение, соединяющее в себе эпопею, исторический роман и очерк нравов» (И.С.Тургене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307440"/>
            <a:ext cx="86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ман-эпоп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Романные» призна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ие сюжета, в котором есть завязка, развитие действия, кульминация, развязка – для всего повествования и для каждой сюжетной линии в отдельности; взаимодействие среды с характером героя, развитие эт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поп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ема(эпоха больших исторических событий); идейное содержание – «моральное единение повествователя с народом в его героической деятельности, патриотизм… прославление жизни, оптимизм; сложность композиции; стремление автора к национально-историческому обобщен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итературоведы определяют «Войну и мир» как философско-исторический роман. Но надо помнить, что история и философия в романе – только составные части. Роман создавался не для воссоздания истории, а как книга о жизни всего народа, нации, создавалась художественная правда. Следовательно, это роман-эпоп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60280"/>
          <a:ext cx="8785440" cy="6121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1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«Любимые» геро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дина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ховно бог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вершают ошибки (духовные поис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Отечеству, общему де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детств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не в Петербург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ть сем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астливы в финале повеств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Ростовых, Болконских, Безуховых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тузов, Тимохин, Тушин, Давыд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«Нелюбимые» геро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статист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духо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верены в себе (не совершают ошибок) – нет духовн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себ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отрочест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в Петербур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сем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уют в эпило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Курагиных, Карагиных, Друбецких,Бергеров; Шерер,Наполео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4249800" cy="532764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981000"/>
          <a:ext cx="4392720" cy="532764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32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800"/>
            </a:br>
            <a:r>
              <a:rPr b="0" lang="ru-RU" sz="2400" spc="-1" strike="noStrike">
                <a:solidFill>
                  <a:srgbClr val="006633"/>
                </a:solidFill>
                <a:latin typeface="Franklin Gothic Demi"/>
              </a:rPr>
              <a:t>Пути исканий смысла жизни Пьером и князем Андрее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постичь смысл жизни, необходимо пройти через множество разочарований, кризисов, потерь и обретений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16280"/>
          <a:ext cx="42800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6404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Ь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ца, женитьба на Элен и дуэль с Долохо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ечение масонств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Андрее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удьбе Наташи и встреча с комет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зд на Бородинское поле и жизнь на батарее Раев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Андрее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ние в захваченной французами Москве, плен, знакомство с Платоном Каратае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итьба на Ната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деятельности тайных общ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3280" y="1916280"/>
          <a:ext cx="42656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49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язь АНДР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ая жизнь с Лиз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на войну, мечта о славе Наполео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 под Аустерлицем и встреча с Наполе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сына и смерть же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единённая жизнь в деревн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Пьеро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 у Сперан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Наташе и разочарование в н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о и встреча с Пьеро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, встреча с Анатол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Наташей и княжной Марь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1268280"/>
          <a:ext cx="7561440" cy="6480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ого, чтобы постичь смысл жизни, необходимо пройти через множество разочарований, кризисов, потерь и обре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40:40Z</dcterms:created>
  <dc:creator>ТАНЯ</dc:creator>
  <dc:description/>
  <dc:language>en-US</dc:language>
  <cp:lastModifiedBy>Сухарь</cp:lastModifiedBy>
  <dcterms:modified xsi:type="dcterms:W3CDTF">2013-01-03T02:16:41Z</dcterms:modified>
  <cp:revision>7</cp:revision>
  <dc:subject/>
  <dc:title>                      Л. Н. ТОЛСТОЙ «Война и мир»                    Историческая основа романа</dc:title>
</cp:coreProperties>
</file>